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DFA-380C-4E12-9DBD-DE03FA1A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862-F77B-4E07-B865-4BF0C56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2C7-CAAE-472C-95A7-72D3D22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B8C-FE3B-47D7-9523-86CF7543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7780-6CC4-4C27-B480-E56906AF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82E4-7460-4490-9845-2DC3446D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F517-3732-4E1A-BD11-08D243A9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7F4E-D189-49D3-98D8-7F019CF7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2549-473E-4EE7-8658-00AD8496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5388-54C1-4F45-82EF-45901063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7379-3B21-46A8-8CB6-EC22188B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7EF-1704-4436-B7F2-8734C9A6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394-E94C-41F6-91AE-2DFDCC4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EE91-38D4-44C9-99A5-E5DEB4FD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184-17E6-463D-B649-AEF3C4E9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CD39-CBB8-475E-91BA-96CF7BB5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FE18-C930-4F1A-A04A-E4D468BD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553-416B-45C2-9829-5FBAC78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3D4-53E2-4B1B-8DF3-6462C5C4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64F-6B2F-4C0A-B73C-D93FDD6C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43E-4F11-47B2-BB1F-726CD20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EEE-F027-4D7F-B24F-F393724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AE9-0906-4D30-A95F-E4455563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1EF-BB72-4B3E-93EA-39125776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7BAE-B267-4619-89A4-B2E700B41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854E-5915-458D-A602-6E27DCEF8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ug of War</a:t>
            </a:r>
            <a:br>
              <a:rPr sz="4100"/>
            </a:br>
            <a:r>
              <a:rPr b="0" i="1" lang="en-US" sz="1600" spc="-1" strike="noStrike">
                <a:solidFill>
                  <a:srgbClr val="336666"/>
                </a:solidFill>
                <a:latin typeface="Arial Black"/>
              </a:rPr>
              <a:t>A real-time strategy with first person action.</a:t>
            </a:r>
            <a:endParaRPr b="0" i="1" lang="en-US" sz="1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y: Earl Lamson III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Next spiral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subscription to individual ev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ubscription group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 for switching input mode between different subscription group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705200" y="1905120"/>
            <a:ext cx="3733560" cy="4037760"/>
            <a:chOff x="4705200" y="1905120"/>
            <a:chExt cx="3733560" cy="4037760"/>
          </a:xfrm>
        </p:grpSpPr>
        <p:cxnSp>
          <p:nvCxnSpPr>
            <p:cNvPr id="129" name="_s150563"/>
            <p:cNvCxnSpPr>
              <a:stCxn id="130" idx="0"/>
              <a:endCxn id="131" idx="2"/>
            </p:cNvCxnSpPr>
            <p:nvPr/>
          </p:nvCxnSpPr>
          <p:spPr>
            <a:xfrm flipV="1" rot="16200000">
              <a:off x="6972840" y="40269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50557"/>
            <p:cNvCxnSpPr>
              <a:stCxn id="133" idx="0"/>
              <a:endCxn id="131" idx="2"/>
            </p:cNvCxnSpPr>
            <p:nvPr/>
          </p:nvCxnSpPr>
          <p:spPr>
            <a:xfrm flipV="1">
              <a:off x="6572160" y="442836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50555"/>
            <p:cNvCxnSpPr>
              <a:stCxn id="135" idx="0"/>
              <a:endCxn id="131" idx="2"/>
            </p:cNvCxnSpPr>
            <p:nvPr/>
          </p:nvCxnSpPr>
          <p:spPr>
            <a:xfrm flipH="1" flipV="1" rot="5400000">
              <a:off x="5666400" y="4028040"/>
              <a:ext cx="505440" cy="130608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50553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6972840" y="251280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150552"/>
            <p:cNvCxnSpPr>
              <a:stCxn id="131" idx="0"/>
              <a:endCxn id="138" idx="2"/>
            </p:cNvCxnSpPr>
            <p:nvPr/>
          </p:nvCxnSpPr>
          <p:spPr>
            <a:xfrm flipV="1">
              <a:off x="6572160" y="2914200"/>
              <a:ext cx="2160" cy="50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50551"/>
            <p:cNvCxnSpPr>
              <a:stCxn id="141" idx="0"/>
              <a:endCxn id="138" idx="2"/>
            </p:cNvCxnSpPr>
            <p:nvPr/>
          </p:nvCxnSpPr>
          <p:spPr>
            <a:xfrm flipH="1" flipV="1" rot="5400000">
              <a:off x="5665680" y="2513160"/>
              <a:ext cx="505440" cy="1307520"/>
            </a:xfrm>
            <a:prstGeom prst="bentConnector3">
              <a:avLst>
                <a:gd name="adj1" fmla="val 2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150547"/>
            <p:cNvSpPr/>
            <p:nvPr/>
          </p:nvSpPr>
          <p:spPr>
            <a:xfrm>
              <a:off x="6012000" y="190512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50548"/>
            <p:cNvSpPr/>
            <p:nvPr/>
          </p:nvSpPr>
          <p:spPr>
            <a:xfrm>
              <a:off x="47052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TS M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50549"/>
            <p:cNvSpPr/>
            <p:nvPr/>
          </p:nvSpPr>
          <p:spPr>
            <a:xfrm>
              <a:off x="60120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URRENT MOD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50550"/>
            <p:cNvSpPr/>
            <p:nvPr/>
          </p:nvSpPr>
          <p:spPr>
            <a:xfrm>
              <a:off x="7318800" y="341928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U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ubscription Grou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50554"/>
            <p:cNvSpPr/>
            <p:nvPr/>
          </p:nvSpPr>
          <p:spPr>
            <a:xfrm>
              <a:off x="4706640" y="4933440"/>
              <a:ext cx="111852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50556"/>
            <p:cNvSpPr/>
            <p:nvPr/>
          </p:nvSpPr>
          <p:spPr>
            <a:xfrm>
              <a:off x="6012000" y="4933440"/>
              <a:ext cx="111888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50562"/>
            <p:cNvSpPr/>
            <p:nvPr/>
          </p:nvSpPr>
          <p:spPr>
            <a:xfrm>
              <a:off x="7317720" y="4933440"/>
              <a:ext cx="1119960" cy="10094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PS M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vent Subscrib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bodies (dynam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of body parameters (shape, mass, position, velocity, force accumul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ping of the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on and destruction of geometries, spaces (for manual coldet, used for 3d GU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collisions between geometries, and spaces of geome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s fire ev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s of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integration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lision of the geometry/space compar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hys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parameterization to the bodi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d more shapes, including support for mesh based collision dete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 spatial partitioning to speed collision dete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a way to merge the graphics meshes with the collision detection system allowing Direct3DX mesh optimization to be used for collision detection on simplified mes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scripting suppor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did manage to get Lua wor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glue code wasn’t very clear but it worke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n I realized, I don’t know Lua, and without having the other interfaces mostly realized, its not easy to glue them to Lu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emed this spiral as the wrong time for script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ipting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much change in the interfac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ill too early, I need to learn Lua if I’m to use i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’ll likely hold off on scripting until I get to the stage of defining entity behavio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New Subsystem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 Manag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 Based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riven desig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 definition of objects as compositions of components and their parame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e design patt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cene grap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component based ob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Environment Cha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b log, didn’t work, cause I didn’t do i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much dramatic changes to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dom were there clear milestones for rel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that useful unless I had a customer to which I wished to increase project visi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source contro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ce I got part way through a refactor before I saw the gaping hole in my design… no way to roll back my 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rgonomics are important to productivit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need a better desk, and to not develop on a lapt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’ve failed to produce a grandiose game in a single semes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 have produced some rough prototype subsystems of a game engine that could be used to implement my grandiose gam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ssons learn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++ is not a RAD langu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e control is not just for team proj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S.NET 2005 doesn’t have good C++ intellise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may rely too much on code insight and aut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Gam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person shooter and real-time strateg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arious units and building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resource and development system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ll a goal object to your goa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ot pulling projectil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ap of Architectur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 Sub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s = Direct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= F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= Direct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s = 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ripting = L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Development Progres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iral Development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an by defin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an archite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nt with emergent design while examining library fea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ied to implement my designs with limited su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ch refacto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and/or redefin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solution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ing of unloading of meshes via .X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hard coded meshes: Sphere, Cube and Qu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ligh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, change and destroy came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der a mesh using a cam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colored filled rectangle (2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w a st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raphics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ene Grap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versal would support minimizing DirectX renderer stat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incorporate DirectX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ided not to use the DirectX sample GUI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495680" y="1905120"/>
            <a:ext cx="3962160" cy="4038120"/>
            <a:chOff x="4495680" y="1905120"/>
            <a:chExt cx="3962160" cy="4038120"/>
          </a:xfrm>
        </p:grpSpPr>
        <p:cxnSp>
          <p:nvCxnSpPr>
            <p:cNvPr id="101" name="_s145435"/>
            <p:cNvCxnSpPr>
              <a:stCxn id="102" idx="1"/>
              <a:endCxn id="103" idx="2"/>
            </p:cNvCxnSpPr>
            <p:nvPr/>
          </p:nvCxnSpPr>
          <p:spPr>
            <a:xfrm rot="10800000">
              <a:off x="6476760" y="52300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5433"/>
            <p:cNvCxnSpPr>
              <a:stCxn id="103" idx="1"/>
              <a:endCxn id="105" idx="2"/>
            </p:cNvCxnSpPr>
            <p:nvPr/>
          </p:nvCxnSpPr>
          <p:spPr>
            <a:xfrm rot="10800000">
              <a:off x="5756040" y="4517280"/>
              <a:ext cx="17964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145431"/>
            <p:cNvCxnSpPr>
              <a:stCxn id="105" idx="1"/>
              <a:endCxn id="107" idx="2"/>
            </p:cNvCxnSpPr>
            <p:nvPr/>
          </p:nvCxnSpPr>
          <p:spPr>
            <a:xfrm rot="10800000">
              <a:off x="503532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45429"/>
            <p:cNvCxnSpPr>
              <a:stCxn id="109" idx="1"/>
              <a:endCxn id="110" idx="2"/>
            </p:cNvCxnSpPr>
            <p:nvPr/>
          </p:nvCxnSpPr>
          <p:spPr>
            <a:xfrm rot="10800000">
              <a:off x="7196040" y="3804840"/>
              <a:ext cx="180720" cy="119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45427"/>
            <p:cNvCxnSpPr>
              <a:stCxn id="112" idx="1"/>
              <a:endCxn id="110" idx="2"/>
            </p:cNvCxnSpPr>
            <p:nvPr/>
          </p:nvCxnSpPr>
          <p:spPr>
            <a:xfrm rot="10800000">
              <a:off x="7196040" y="3804840"/>
              <a:ext cx="180720" cy="47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45425"/>
            <p:cNvCxnSpPr>
              <a:stCxn id="110" idx="0"/>
              <a:endCxn id="114" idx="2"/>
            </p:cNvCxnSpPr>
            <p:nvPr/>
          </p:nvCxnSpPr>
          <p:spPr>
            <a:xfrm flipV="1">
              <a:off x="719640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45423"/>
            <p:cNvCxnSpPr>
              <a:stCxn id="107" idx="0"/>
              <a:endCxn id="116" idx="2"/>
            </p:cNvCxnSpPr>
            <p:nvPr/>
          </p:nvCxnSpPr>
          <p:spPr>
            <a:xfrm flipV="1">
              <a:off x="5035680" y="3092040"/>
              <a:ext cx="1800" cy="23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45419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6537240" y="1957320"/>
              <a:ext cx="237960" cy="108144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45418"/>
            <p:cNvCxnSpPr>
              <a:stCxn id="116" idx="0"/>
              <a:endCxn id="118" idx="2"/>
            </p:cNvCxnSpPr>
            <p:nvPr/>
          </p:nvCxnSpPr>
          <p:spPr>
            <a:xfrm flipH="1" flipV="1" rot="5400000">
              <a:off x="5456880" y="1958040"/>
              <a:ext cx="237960" cy="1080360"/>
            </a:xfrm>
            <a:prstGeom prst="bentConnector3">
              <a:avLst>
                <a:gd name="adj1" fmla="val 478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45414"/>
            <p:cNvSpPr/>
            <p:nvPr/>
          </p:nvSpPr>
          <p:spPr>
            <a:xfrm>
              <a:off x="5575320" y="190512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o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5415"/>
            <p:cNvSpPr/>
            <p:nvPr/>
          </p:nvSpPr>
          <p:spPr>
            <a:xfrm>
              <a:off x="449568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Worl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5416"/>
            <p:cNvSpPr/>
            <p:nvPr/>
          </p:nvSpPr>
          <p:spPr>
            <a:xfrm>
              <a:off x="6656400" y="26175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amera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GUI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45422"/>
            <p:cNvSpPr/>
            <p:nvPr/>
          </p:nvSpPr>
          <p:spPr>
            <a:xfrm>
              <a:off x="449568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ustum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45424"/>
            <p:cNvSpPr/>
            <p:nvPr/>
          </p:nvSpPr>
          <p:spPr>
            <a:xfrm>
              <a:off x="6656400" y="333036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alo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ontrol Container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45426"/>
            <p:cNvSpPr/>
            <p:nvPr/>
          </p:nvSpPr>
          <p:spPr>
            <a:xfrm>
              <a:off x="7377120" y="40428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orderAre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45428"/>
            <p:cNvSpPr/>
            <p:nvPr/>
          </p:nvSpPr>
          <p:spPr>
            <a:xfrm>
              <a:off x="7377120" y="4755600"/>
              <a:ext cx="107928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ntrol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ab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45430"/>
            <p:cNvSpPr/>
            <p:nvPr/>
          </p:nvSpPr>
          <p:spPr>
            <a:xfrm>
              <a:off x="5216040" y="4042800"/>
              <a:ext cx="107964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ght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45432"/>
            <p:cNvSpPr/>
            <p:nvPr/>
          </p:nvSpPr>
          <p:spPr>
            <a:xfrm>
              <a:off x="5935680" y="47556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ulling Nod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Light Bounds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45434"/>
            <p:cNvSpPr/>
            <p:nvPr/>
          </p:nvSpPr>
          <p:spPr>
            <a:xfrm>
              <a:off x="6656400" y="5468400"/>
              <a:ext cx="1080720" cy="474840"/>
            </a:xfrm>
            <a:prstGeom prst="roundRect">
              <a:avLst>
                <a:gd name="adj" fmla="val 16667"/>
              </a:avLst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esh Nod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- Currently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ad soun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and stop sound sources (looping only) and give them 3d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listener posi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master volu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udio – Next spir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ing of streaming sounds (music) with cueing event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lay a non-3d sound once, fire and forge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sound sources velocity to support Doppler effec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put – Currently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interface allow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cribe to all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quire devices – exclusive access, traps mouse cursor, can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aquire devices – releases mouse cursor, can’t poll for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l data – interface fires events for any change in input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3:43:51Z</dcterms:created>
  <dc:creator>Earl Lamson III</dc:creator>
  <dc:description/>
  <dc:language>en-US</dc:language>
  <cp:lastModifiedBy>Earl Lamson III</cp:lastModifiedBy>
  <dcterms:modified xsi:type="dcterms:W3CDTF">2006-04-20T08:20:05Z</dcterms:modified>
  <cp:revision>4</cp:revision>
  <dc:subject/>
  <dc:title>Tug of War</dc:title>
</cp:coreProperties>
</file>